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9D2-BD73-48DE-84FD-5D42D464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FDF-BE4C-48DD-B4AC-B74147DC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884-E13A-4DAD-8084-C869735F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D69-52BA-43BA-872B-5F814A30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6DE-A130-4596-88EB-37A89A52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8281-0E2A-40FF-BF83-36D24082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FE9-DE8C-46B2-8A6C-E6BAE5E9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F61-AF12-469D-9306-E0B4969F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9F3-3D55-4BDA-9747-E77EA5BB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669-AC15-4CAB-8FD8-15BBF9F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44C-1969-48A7-A872-C67E6BB5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D29-B0B9-4E4A-8FC8-AA7E3FE6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D24D-53EA-4520-A85A-3459672E05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3366ff"/>
                </a:solidFill>
                <a:uFillTx/>
                <a:latin typeface="Rockwell Extra Bold"/>
              </a:rPr>
              <a:t>Invisible Child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pperplate Gothic Light"/>
              </a:rPr>
              <a:t>Please relax and enjoy the PowerPoint about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1" i="1" lang="en-US" sz="3200" spc="-1" strike="noStrike" u="sng">
                <a:solidFill>
                  <a:srgbClr val="3366ff"/>
                </a:solidFill>
                <a:uFillTx/>
                <a:latin typeface="Copperplate Gothic Light"/>
              </a:rPr>
              <a:t>Invisible Childr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40006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00ff"/>
                </a:solidFill>
                <a:uFillTx/>
                <a:latin typeface="Tempus Sans ITC"/>
              </a:rPr>
              <a:t>What Is Invisible Childr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66ff"/>
                </a:solidFill>
                <a:uFillTx/>
                <a:latin typeface="Verdana"/>
              </a:rPr>
              <a:t>Invisible Childre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cc00"/>
                </a:solidFill>
                <a:latin typeface="Verdana"/>
              </a:rPr>
              <a:t>is a charity for children in Ugand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Verdana"/>
              </a:rPr>
              <a:t>This charity tries to stop sending the children to w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Verdana"/>
              </a:rPr>
              <a:t>There are many celebrities going to Uganda and trying to raise mone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Tahoma"/>
              </a:rPr>
              <a:t>Why Should You Chose This Char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Palatino Linotype"/>
              </a:rPr>
              <a:t>You should adopt this charity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1. This charity will be new to the schoo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Palatino Linotype"/>
              </a:rPr>
              <a:t>2. The children will have a better education because the money you donate/raise will go straight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3. The children will also lead a better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Palatino Linotype"/>
              </a:rPr>
              <a:t>4. Hopefully, it might stop the w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4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4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4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4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4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4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4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4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4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4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4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4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4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4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4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4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4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4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Raff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Boot Sa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Music Concer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Guess How Many Sweets In A J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Sponsored Ru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Sponsored Wal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Sponsored Sile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Making Badg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Making Card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nd Many More….But We’re Running Out Of Time To Put Them </a:t>
            </a:r>
            <a:r>
              <a:rPr b="1" i="1" lang="en-US" sz="2000" spc="-1" strike="noStrike" u="sng">
                <a:solidFill>
                  <a:srgbClr val="ff0066"/>
                </a:solidFill>
                <a:uFillTx/>
                <a:latin typeface="Verdana"/>
              </a:rPr>
              <a:t>ALL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cc66ff"/>
                </a:solidFill>
                <a:uFillTx/>
                <a:latin typeface="Vivaldi"/>
              </a:rPr>
              <a:t>Our Suggested Fundraising Idea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Tahoma"/>
              </a:rPr>
              <a:t>How Will We Show Our Commitment For The Next Five Yea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We will show our commitment by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Karti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Keeping you updated on any chang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Karti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Telling you when the new events are o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Karti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Making sure we keep you updated on how much you raise through out </a:t>
            </a:r>
            <a:r>
              <a:rPr b="1" i="1" lang="en-GB" sz="3600" spc="-1" strike="noStrike" u="sng">
                <a:solidFill>
                  <a:srgbClr val="ff0000"/>
                </a:solidFill>
                <a:uFillTx/>
                <a:latin typeface="Kartika"/>
              </a:rPr>
              <a:t>5 year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Karti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Being there </a:t>
            </a:r>
            <a:r>
              <a:rPr b="1" i="1" lang="en-GB" sz="3600" spc="-1" strike="noStrike" u="sng">
                <a:solidFill>
                  <a:srgbClr val="ff0000"/>
                </a:solidFill>
                <a:uFillTx/>
                <a:latin typeface="Kartika"/>
              </a:rPr>
              <a:t>100%</a:t>
            </a: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  for any questions to be ask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Thank you for watching our PowerPoint about </a:t>
            </a:r>
            <a:r>
              <a:rPr b="1" i="1" lang="en-US" sz="2800" spc="-1" strike="noStrike" u="sng">
                <a:solidFill>
                  <a:srgbClr val="ff99ff"/>
                </a:solidFill>
                <a:uFillTx/>
                <a:latin typeface="Comic Sans MS"/>
              </a:rPr>
              <a:t>Invisible Childr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Also many thanks to Mrs Boardman for letting us use her whiteboard! And for her trying to make our floppy disk work yesterda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e hope you will consider choosing our </a:t>
            </a:r>
            <a:r>
              <a:rPr b="1" i="1" lang="en-US" sz="2800" spc="-1" strike="noStrike" u="sng">
                <a:solidFill>
                  <a:srgbClr val="ff99ff"/>
                </a:solidFill>
                <a:uFillTx/>
                <a:latin typeface="Comic Sans MS"/>
              </a:rPr>
              <a:t>awesome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ch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11:36Z</dcterms:created>
  <dc:creator>Carys</dc:creator>
  <dc:description/>
  <dc:language>en-US</dc:language>
  <cp:lastModifiedBy>nb</cp:lastModifiedBy>
  <dcterms:modified xsi:type="dcterms:W3CDTF">2007-12-06T08:50:26Z</dcterms:modified>
  <cp:revision>4</cp:revision>
  <dc:subject/>
  <dc:title>Invisible Children</dc:title>
</cp:coreProperties>
</file>